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F81-265C-4264-A5D1-1FAF8123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C9C-35A8-46FC-95F7-07BC5288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64FCC-AA81-4AAF-9C8A-07F944E2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B500C-A145-497E-99B4-69007289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E4343-E429-4C12-9BC8-ECFFF08D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090AF-7C57-463D-83E7-A395A2B9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2D723-C944-4C3A-BCC7-CB4286F3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3991D-7EE3-4E1C-831B-DCD22FBF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1FA54-4ED9-4F52-8D98-F5DDDC54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AD359-49FB-4342-AA60-6D72A0C2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C79C9-2211-41CA-A040-952784BA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8B74E-4C9C-462A-92BD-D4FE0D9D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5C0-0A95-46DE-8C47-F1854FBC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705D3-72F3-4734-A201-E4D592E1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89BEE-E1B1-4C46-9640-A0E76952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BBB42-32E4-47FE-93C4-0F49995F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A87EC-9087-4CDD-8F71-6AA07564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6945F-3FC5-4848-98B0-F2E96B65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C336A-B51A-42E0-A678-09055899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1CB18-848D-4533-864B-F535BA55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6CC81-E26F-442E-8AEA-60AE0E8C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E3B09-A56A-4D9E-B389-968486D8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1C8AE-7629-4074-AA46-965D123A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A03B-EDD8-46FF-8B5D-A7E2A6C5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E019B-D365-4D1E-8166-BA50788E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8A73F-5C52-440F-B7D6-8BC4984D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26CF0-2129-4804-A24C-5D8FC056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CDDB6-8877-4E54-B55C-27BEC7B7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A356C-1154-4863-A8A5-88FFC1E6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C1797-0F82-448A-B52D-780002B1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2E84C-F5B7-45B1-BB3C-6A2E196C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835C5-320A-4100-AB08-BB9D3C01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2388F-BAA6-4688-B139-6253F6D7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C5670-EBE9-43CD-BC72-AB503079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0DE8-A5AC-4AC1-9990-D2A4AF2A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99672-7BB1-4215-9947-1280A53A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42F4F-43A7-48AE-85F8-6ABA5C60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73ED8-B397-4673-8E05-5DD02CA8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EE090-E06B-4FC5-B231-336DC8B5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62C25-C561-4F07-A917-15210E48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AB1CB-2D89-4AB2-9C2C-91D33CEB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CF9DF-D76E-449E-9DE2-388E5D74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EB7DA-05DA-4DEE-A23D-899A153A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4AB43-130D-4FD7-9701-990DABBD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AF85B-F4DA-4064-834B-1D998F86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9CAB-5481-4B26-92B7-8E86F2E1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1A46B-8B0D-42EA-881B-D706F24D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B4D2E-ACD6-4DFD-9B46-1FECC0A7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1D0F9-176A-47C7-A69D-9C695055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F0506-0120-4855-B4B7-9801EB0C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A6F92-9CD3-4394-8DA7-141BC7B7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E65AF-11E9-45B1-86DE-46E977B7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88ABA-EC1B-433A-9A2E-0EC30E1F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FC576-2B22-41CF-BFA7-752DC890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F7D04-37B6-4A74-986B-9DB708D0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889F1-E8C7-4CE3-8A89-EA18A1C2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ABE0-4FC1-40E9-9087-441F846D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09CE1-99B9-434B-8F2D-9F2DDEEF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8D75D-9CE6-457B-BE97-4B177BF7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1C235-3083-42A1-8F63-BF9B6297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F05E3-AEFC-4920-9BF7-9784D8D6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D5884-0C0C-45C4-A7FD-8D7D4C9B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F380B-7022-47EE-AC39-020BB1BF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D49DA-D884-4EB4-9D0D-7C82194E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303D9B-1C6A-42A8-80C8-B3A10328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5E5D3-1FF6-4379-8DA7-5A33D3ED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72A1C-7318-42EC-A542-9517D257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B4AA-4450-4F53-BD40-773FDEB9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12DBBC-0530-4C64-8D11-25B2EDE1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50A422-F776-4F60-B3AF-A1820F0A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8F85A-8E98-4377-957A-E12F0F4F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FA8D6-D85B-428F-9B17-9EBE6311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93A94-9DF2-4277-AA53-3A0A608B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98D5F-09FC-4082-94EE-64D6121E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E705F-5A2C-4B86-A473-8D54D727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603EE-E4F9-4BB5-8D0B-BE132B6F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A4442-868A-4ADD-B307-2B49A5F5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D872F-75AA-4EF6-9181-4D301347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3C38-8473-4755-94CB-E7CBEFE9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7A349D-E7BF-46C0-892A-0C16302C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E8878-2857-4AE9-9208-1719DBA6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2C11D-4A9F-4AC9-B9B7-5055F766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C63BF-146D-4A67-9BBD-EFF42E7A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95AF2-8128-4768-B9D2-BFA4A67E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C0699A-EBFE-427B-89C4-A717FC7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8F56F-E1D3-47CD-8D9A-7D5970D6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BF2AA-4130-4B73-89CF-40C04F6B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547A9-E7C4-43E0-928F-B2C9D01F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E96936-2F41-4E1B-8244-3C757EFB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C624-664A-4D7E-AEBD-0A2CFBCD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77824F-32DB-45C0-90F1-CA1B4F04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CA21B-ACFA-48B7-819D-4CA3D7AD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0542FE-9529-43A2-9397-FFB7CAB4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99D69-6D48-4169-82DE-DD7DA82B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AE360A-5CF9-4086-9C3C-90D9E5E3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7C811B-0364-442F-A956-138AF50A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0FB3E2-994D-4817-B213-56A67174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69FCD3-11AC-43C1-8963-A123ACDB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14CCB-FCB3-44F0-A4BF-10CA54E0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4E37AB-9310-48B9-A6F7-9396BF14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CE70-A1FE-4077-B831-55233380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924621-BF58-4FEA-83DC-B06E2299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C007F8-6565-4E5D-838B-1F72F028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C1F17C-E275-419C-A97F-166AC958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E9A0AB-2F4A-403D-BC07-1DED5A59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1F00F-2FB6-4E8E-A038-3F87D196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9BEB3-D61B-4B84-AAA7-0AFF8186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54DAB-A908-4BB2-BE29-2479C80F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AA9F8D-7CF8-427C-9BA3-C600E786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21D60-1A88-4D54-B9A1-5E7CBE22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7726D3-2921-4CE3-9DE0-2127C9ED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41E-30A6-47F1-88D8-DD3BEDA0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2100-B0F7-4699-8A12-0F1E9FB9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673168-4080-4DF0-8D8B-762B135F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52207-5701-4247-8A3B-BB2C73E7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CD47C-75BB-4A6B-916E-60B84135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FFE51E-47BD-4C2E-9125-1DA13BD7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61206A-CB02-42FE-9F27-E65F4133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611BDC-D9FE-4C57-B2A0-80E0994B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BFA2F-CF77-49BD-A309-B2508E77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CFE66D-D278-4A8B-A354-A55D3A4D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23562C-95B0-4A36-9AD6-84CCB5D8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1AE3E-2C0E-463A-A000-FCCBFB2C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9342-14FA-4C38-8DB9-B61EAFCA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7467A-F832-425C-B1BD-7CE67954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86542C-45CC-4C8E-BFAD-429ACCEE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9495A0-9899-49BC-9596-E71C4DD1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DBB7E0-584D-4C2E-BF3A-70CA3882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56A2C0-C0CB-4E54-AA4A-624DB95D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3A519A-C30D-4A95-B6B3-3C65C8B7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B1B089-E304-46CE-A9D5-6CAB3148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E5001C-3623-4BA5-B458-62B180AF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E6FC78-E986-444A-9E27-6BF7ECEA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9736BB-B403-4254-8E97-CF79C02F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7722-AEAA-448C-B8C4-2E0148C0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052D3D-B84F-4F08-ADED-4A2843AF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F66E63-9946-4603-9E42-E2789B48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1B06E6-944D-460C-B5F2-A3FBD923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AA467A-E21B-43D1-A39B-E20FD607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664A07-66CD-4F14-B56F-DF1E5FAA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9DE21B-7F08-402C-98AB-A9CCBD07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5E952D-5A2A-4B72-A6F2-F541FF77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A263F3-83E2-458D-B47A-82B6FF4F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43B065-F5AA-47DB-8CB9-55F3B5D9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DC0FBB-D2A3-4BD8-8738-A413CC00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250B-3DD9-4E11-BBEA-1F8ED78F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C3E86F-0FA7-4AF3-842F-16B51BF4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985BDF-BAFD-4B28-8E51-8F371C20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6B6B48-445B-4437-B0B1-589BBAC4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93E0D9-19D4-42B3-BDD1-55D721B1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BB9B6F-9C32-4465-825F-00D7CA2B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CBADEA-9F2D-4C00-80F2-90DD33F7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E7531D-BC92-45B3-87E2-D313C038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D98970-E734-4693-ABED-458CF216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044675-D865-40EB-9FCE-7339092A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A03965-BF11-445E-9781-3F8CA53B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76A4-9974-485B-ADE0-46C108F2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A198A7-470D-4885-B513-655E4E4B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9A74EF-C8A0-47C1-98C7-A6B944A8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421F7C-143D-4269-BBD8-4526EAE5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22660-58D8-41EA-997A-5334E541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21FA3D-C0BA-48E4-8C3F-0D9ED1C6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082B2D-7B09-46E2-B831-55CF49A5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A8B377-3C9B-4291-B55D-EBC79FB0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5A0447-3698-442D-8E98-3C883B0E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7A73AF-260F-4FFC-85E0-C51CE84D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C1909A-2474-4838-9846-E4C2D857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16C21-69D5-4414-98C7-6C8148B8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5982DA-BD9A-44B2-B45C-0DCABD46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C5AA06-CFED-489F-89A3-B1B8B05A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4AB4D1-6FD7-4522-9FB1-29C54B5A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8CE8A-5F75-4DAB-A399-A986F269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6897-BCEE-4EC3-AFC6-E72C433C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D7E0F-75C0-4548-87E8-C520CBD2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4239-DD3C-44C9-A630-A3A3C206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BC4-8AB0-4546-AAE9-D621D8BF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9A55-8EE8-4B0C-9581-D2E4E914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E90AB-08F9-4AC8-8379-A1DFF30D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ECF57-FD09-4E63-892D-771C38EE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0FE76-8513-45C9-82FF-EF2BF340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154BF-618F-4465-9FF7-4485651E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56D8-DB44-45B7-B947-509E8036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A8F9A-201C-4DFB-ABCB-EF18499E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5179F-B064-4364-B56A-B7DA2726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3E1F0-AA8F-4DA8-A446-2F89CE37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5536B-8AB9-490A-A107-CEAB74A9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B85-AF53-467F-AD9E-D32F6148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68A3B-3054-49AA-9CA2-E59629DE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B2898-1EBA-48A6-95D2-471BF5B6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67CDB-215A-4370-A0C8-B40F1D5C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65566-0F0D-4A12-99AE-9BE2E905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A3E6B-2C58-4D81-BEE8-4EC94A13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8C4D3-B1F1-4D9C-9CBA-0170477F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4B4AE-8770-4B6E-8CEA-BE8D37CC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C169D-8561-4F22-A96A-29D5A292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DD85A-C394-419B-BEB4-5D8A2EAA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FD0C5-0CCB-4C30-9BC1-369AEC79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0FBC-B602-4D13-924B-0181268C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97E49-A85B-425C-B3A6-24952A22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A4E09-E59F-4620-8AB0-8743DADC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448D8-A8BB-43A5-A169-33FE0C39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FA43B-D60A-4498-9193-4B9C2A90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C2E42-8E0D-4BBF-ACE2-2E6E24B4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2F83F-6614-4DB6-81BB-36096A88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3AEC5-D3DF-4831-8FB6-7D0D8919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928A9-B1A1-4378-9EE0-CAA5E045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560D1-6DE6-4C55-9367-C7D0512C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BE99E-5CCF-4289-AD6B-9BBEBF24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625-E301-4DA6-9D51-C8E8A736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B4EA2-37F9-47C1-BF06-F6FDE90E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0AF02-2DAC-4C10-82E2-22F0A148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BCF72-D8EA-4EBF-B7E2-5154D2E0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F7BDF-8DFF-4E72-923F-7D554F5B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727B2-9F54-4A85-8ED7-8DB6C241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5607B-B36D-4301-9EF7-5EEFC02D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730D1-83D3-4FB9-A40F-7FFE9540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97E40-AF5F-48D0-9942-599496B5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0E97E-CCC2-49BE-9FD4-7DEC0298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77437-59A8-4CE1-9606-902A8BE5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3D8-3BEE-4720-A0DD-9F27D41E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0795F-6CBE-4AF4-BA5D-1D8F85A8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3BB69-517C-4EF2-96BF-30D1DE37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C6F51-565F-4C67-8215-6B9417F2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17697-200B-49DB-AA87-82C0665A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5FC9A-9EE7-40E8-9CA5-95E01A26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D48EE-810A-43BD-B205-CDF6CE0A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BAE17-84D2-4117-BB80-60AA0EE2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8BC2F-371C-4B0F-8E7B-C48E681E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97BCA-DCEC-41B6-920C-D0EBE6F2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AEA62-B82C-45A2-9662-69ACDFAF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E62-5CDC-4D98-8D17-4A95039B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8D5A9-6EDE-4A46-A166-2877A573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7237D-9CE4-448B-B00F-5F5A6981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BDD41-8BC6-4059-9F2E-17C29309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813F6-6115-423F-B0A3-B7F00991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4558A-61D4-4C2E-910E-ED697D34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247A2-3C17-40DD-9DB4-12740DE4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D95E5-D0AE-4882-B661-33C8E581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2F4BF-4445-44CE-8D91-E518AE45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FAF3A-08E4-42F7-B640-92B72949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7032B-486A-405B-98EF-78BF89D9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3CA-D1ED-4051-BD96-439FD39B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620B4-6BEC-4724-952C-70FFC7BF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0A7D4-6F57-445C-B0BD-B3A4029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67295-985A-4B3D-93D6-33D00D19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A8E43-4C5C-47D0-BC04-51935B07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A920E-74B4-4EDD-B31F-66959223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079B2-29BB-4B79-8975-4DE9086C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FB857-C446-48E6-B17E-56D11C94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FF203-C8D8-4D1E-92F4-9B4549B2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BDB1A-579B-4538-914A-5309FCDA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DE85F-0D69-4461-95EC-8C657BC9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4887-7E8E-421B-BC2A-704F563B72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9703-955C-49A2-9C63-5AFC8A6987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283C-E278-4F4A-96A6-C09BB819A6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A171-15D3-4007-9BBE-04CDE8BFE5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5293-F840-41F8-88CA-26D944ED7C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5AE2-72D4-49ED-A346-D14E7CB17E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E2CB-9882-4C38-95F4-43AE8563EF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DCD9-AB2B-4CF9-8BEB-D6FA348D10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E810-1E01-4B14-B831-A2C8469BFD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8654-AFE1-4937-9F56-C8F92DB6F9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A05F-6163-48D4-BBF9-C50E3642ED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2357-3B27-4C3C-93C2-799B18CAAC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2991-5772-49E2-A780-979A613281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2D24-A8D0-4E64-9D7A-DC61FFD7CB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6C7A-C782-462B-95C8-8CC918876B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66F1-E38C-46F7-86C0-13F544FF75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B1FF-BD00-4DD1-A2BE-5796113C5B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12F6-BEF5-4718-ABA9-4199BC0ABE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D11E-08E3-4426-8E9E-694ED0D647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0CAE-9959-4DC9-9596-29772F3558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621C-6321-4D68-9C98-3026D6E70D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5F9F-1C7B-4FB8-94B2-31606473CF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D09A-1BD2-4E09-AE8C-34A7E98053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0934-ED64-440C-8FCF-EAB6A1B200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979C-B8F7-46C5-96F2-76DB18BB96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E67F-EA82-4555-A7C9-55CDDCD780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4E73-3DF3-4268-8882-8E6F46B1AC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3EAA-84C7-4EB6-A4B8-7BF6DFE009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834D-AEB9-45E4-BBCA-86829B64F5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9ACE-DB79-4936-863C-6A5F8638E6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7C4A-22C4-4FD8-A79A-556613D86A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D21A-849A-42F3-846D-E7103B4804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5124-B510-4367-977D-351390369C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18E9-C0B3-4B85-965E-36DE58AC48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CF1C-2BF2-412B-844D-AD893346EC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ADBD-D910-4766-A2AF-828771DA80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BE6D-85B6-4ACC-97CC-78837E9165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2B02-04D8-4F3B-9B28-2B2DC61EDD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8654-C0B0-4A27-860F-546255B014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931E-7CB0-405D-9214-BB0B244BED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3309840" y="3071880"/>
            <a:ext cx="2524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79874" descr=""/>
          <p:cNvPicPr/>
          <p:nvPr/>
        </p:nvPicPr>
        <p:blipFill>
          <a:blip r:embed="rId1"/>
          <a:stretch/>
        </p:blipFill>
        <p:spPr>
          <a:xfrm>
            <a:off x="490680" y="1471680"/>
            <a:ext cx="81626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78849" descr=""/>
          <p:cNvPicPr/>
          <p:nvPr/>
        </p:nvPicPr>
        <p:blipFill>
          <a:blip r:embed="rId1"/>
          <a:stretch/>
        </p:blipFill>
        <p:spPr>
          <a:xfrm>
            <a:off x="747720" y="2081160"/>
            <a:ext cx="7648560" cy="2695680"/>
          </a:xfrm>
          <a:prstGeom prst="rect">
            <a:avLst/>
          </a:prstGeom>
          <a:ln w="0">
            <a:noFill/>
          </a:ln>
        </p:spPr>
      </p:pic>
      <p:sp>
        <p:nvSpPr>
          <p:cNvPr id="1061" name="矩形 78850"/>
          <p:cNvSpPr/>
          <p:nvPr/>
        </p:nvSpPr>
        <p:spPr>
          <a:xfrm>
            <a:off x="7616880" y="3197160"/>
            <a:ext cx="36504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7782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72720" cy="56196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77826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7724880" cy="4324320"/>
          </a:xfrm>
          <a:prstGeom prst="rect">
            <a:avLst/>
          </a:prstGeom>
          <a:ln w="0">
            <a:noFill/>
          </a:ln>
        </p:spPr>
      </p:pic>
      <p:sp>
        <p:nvSpPr>
          <p:cNvPr id="1064" name="矩形 77827"/>
          <p:cNvSpPr/>
          <p:nvPr/>
        </p:nvSpPr>
        <p:spPr>
          <a:xfrm>
            <a:off x="7845480" y="2206800"/>
            <a:ext cx="36504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76801" descr=""/>
          <p:cNvPicPr/>
          <p:nvPr/>
        </p:nvPicPr>
        <p:blipFill>
          <a:blip r:embed="rId1"/>
          <a:stretch/>
        </p:blipFill>
        <p:spPr>
          <a:xfrm>
            <a:off x="495360" y="1743120"/>
            <a:ext cx="8153280" cy="3371760"/>
          </a:xfrm>
          <a:prstGeom prst="rect">
            <a:avLst/>
          </a:prstGeom>
          <a:ln w="0">
            <a:noFill/>
          </a:ln>
        </p:spPr>
      </p:pic>
      <p:sp>
        <p:nvSpPr>
          <p:cNvPr id="1066" name="矩形 76802"/>
          <p:cNvSpPr/>
          <p:nvPr/>
        </p:nvSpPr>
        <p:spPr>
          <a:xfrm>
            <a:off x="4692600" y="2940120"/>
            <a:ext cx="94608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76803"/>
          <p:cNvSpPr/>
          <p:nvPr/>
        </p:nvSpPr>
        <p:spPr>
          <a:xfrm>
            <a:off x="1332000" y="3500280"/>
            <a:ext cx="946080" cy="4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76804"/>
          <p:cNvSpPr/>
          <p:nvPr/>
        </p:nvSpPr>
        <p:spPr>
          <a:xfrm>
            <a:off x="5867280" y="4076640"/>
            <a:ext cx="9464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89089" descr=""/>
          <p:cNvPicPr/>
          <p:nvPr/>
        </p:nvPicPr>
        <p:blipFill>
          <a:blip r:embed="rId1"/>
          <a:stretch/>
        </p:blipFill>
        <p:spPr>
          <a:xfrm>
            <a:off x="490680" y="1171440"/>
            <a:ext cx="8162640" cy="4515120"/>
          </a:xfrm>
          <a:prstGeom prst="rect">
            <a:avLst/>
          </a:prstGeom>
          <a:ln w="0">
            <a:noFill/>
          </a:ln>
        </p:spPr>
      </p:pic>
      <p:sp>
        <p:nvSpPr>
          <p:cNvPr id="1070" name="矩形 89090"/>
          <p:cNvSpPr/>
          <p:nvPr/>
        </p:nvSpPr>
        <p:spPr>
          <a:xfrm>
            <a:off x="3311640" y="2340000"/>
            <a:ext cx="164124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89091"/>
          <p:cNvSpPr/>
          <p:nvPr/>
        </p:nvSpPr>
        <p:spPr>
          <a:xfrm>
            <a:off x="3059280" y="4005360"/>
            <a:ext cx="7635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89092"/>
          <p:cNvSpPr/>
          <p:nvPr/>
        </p:nvSpPr>
        <p:spPr>
          <a:xfrm>
            <a:off x="3780000" y="4581360"/>
            <a:ext cx="10015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89093"/>
          <p:cNvSpPr/>
          <p:nvPr/>
        </p:nvSpPr>
        <p:spPr>
          <a:xfrm>
            <a:off x="1692360" y="5157720"/>
            <a:ext cx="10015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图片 90113" descr=""/>
          <p:cNvPicPr/>
          <p:nvPr/>
        </p:nvPicPr>
        <p:blipFill>
          <a:blip r:embed="rId1"/>
          <a:stretch/>
        </p:blipFill>
        <p:spPr>
          <a:xfrm>
            <a:off x="480960" y="928800"/>
            <a:ext cx="8182080" cy="5000400"/>
          </a:xfrm>
          <a:prstGeom prst="rect">
            <a:avLst/>
          </a:prstGeom>
          <a:ln w="0">
            <a:noFill/>
          </a:ln>
        </p:spPr>
      </p:pic>
      <p:sp>
        <p:nvSpPr>
          <p:cNvPr id="1075" name="矩形 90114"/>
          <p:cNvSpPr/>
          <p:nvPr/>
        </p:nvSpPr>
        <p:spPr>
          <a:xfrm>
            <a:off x="7340760" y="4826160"/>
            <a:ext cx="119376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90115"/>
          <p:cNvSpPr/>
          <p:nvPr/>
        </p:nvSpPr>
        <p:spPr>
          <a:xfrm>
            <a:off x="1116000" y="5373720"/>
            <a:ext cx="6890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90116"/>
          <p:cNvSpPr/>
          <p:nvPr/>
        </p:nvSpPr>
        <p:spPr>
          <a:xfrm>
            <a:off x="3995640" y="5373720"/>
            <a:ext cx="157500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91137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10520" cy="6165720"/>
          </a:xfrm>
          <a:prstGeom prst="rect">
            <a:avLst/>
          </a:prstGeom>
          <a:ln w="0">
            <a:noFill/>
          </a:ln>
        </p:spPr>
      </p:pic>
      <p:sp>
        <p:nvSpPr>
          <p:cNvPr id="1079" name="矩形 91138"/>
          <p:cNvSpPr/>
          <p:nvPr/>
        </p:nvSpPr>
        <p:spPr>
          <a:xfrm>
            <a:off x="4454640" y="3654360"/>
            <a:ext cx="16034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91139"/>
          <p:cNvSpPr/>
          <p:nvPr/>
        </p:nvSpPr>
        <p:spPr>
          <a:xfrm>
            <a:off x="6732720" y="5805360"/>
            <a:ext cx="14792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矩形 91140"/>
          <p:cNvSpPr/>
          <p:nvPr/>
        </p:nvSpPr>
        <p:spPr>
          <a:xfrm>
            <a:off x="2340000" y="6381720"/>
            <a:ext cx="8604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88065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48480" cy="4019400"/>
          </a:xfrm>
          <a:prstGeom prst="rect">
            <a:avLst/>
          </a:prstGeom>
          <a:ln w="0">
            <a:noFill/>
          </a:ln>
        </p:spPr>
      </p:pic>
      <p:sp>
        <p:nvSpPr>
          <p:cNvPr id="1024" name="矩形 88066"/>
          <p:cNvSpPr/>
          <p:nvPr/>
        </p:nvSpPr>
        <p:spPr>
          <a:xfrm>
            <a:off x="2482920" y="2530440"/>
            <a:ext cx="36504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88067"/>
          <p:cNvSpPr/>
          <p:nvPr/>
        </p:nvSpPr>
        <p:spPr>
          <a:xfrm>
            <a:off x="3995640" y="2492280"/>
            <a:ext cx="36540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8068"/>
          <p:cNvSpPr/>
          <p:nvPr/>
        </p:nvSpPr>
        <p:spPr>
          <a:xfrm>
            <a:off x="2987640" y="2997360"/>
            <a:ext cx="40788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8069"/>
          <p:cNvSpPr/>
          <p:nvPr/>
        </p:nvSpPr>
        <p:spPr>
          <a:xfrm>
            <a:off x="1763640" y="3357720"/>
            <a:ext cx="11224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8070"/>
          <p:cNvSpPr/>
          <p:nvPr/>
        </p:nvSpPr>
        <p:spPr>
          <a:xfrm>
            <a:off x="3348000" y="3429000"/>
            <a:ext cx="1122480" cy="264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8071"/>
          <p:cNvSpPr/>
          <p:nvPr/>
        </p:nvSpPr>
        <p:spPr>
          <a:xfrm>
            <a:off x="3495600" y="4230720"/>
            <a:ext cx="827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8072"/>
          <p:cNvSpPr/>
          <p:nvPr/>
        </p:nvSpPr>
        <p:spPr>
          <a:xfrm>
            <a:off x="5940360" y="4206960"/>
            <a:ext cx="750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8073"/>
          <p:cNvSpPr/>
          <p:nvPr/>
        </p:nvSpPr>
        <p:spPr>
          <a:xfrm>
            <a:off x="4491000" y="4610160"/>
            <a:ext cx="1150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8074"/>
          <p:cNvSpPr/>
          <p:nvPr/>
        </p:nvSpPr>
        <p:spPr>
          <a:xfrm>
            <a:off x="5076720" y="5013360"/>
            <a:ext cx="67644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87041" descr=""/>
          <p:cNvPicPr/>
          <p:nvPr/>
        </p:nvPicPr>
        <p:blipFill>
          <a:blip r:embed="rId1"/>
          <a:stretch/>
        </p:blipFill>
        <p:spPr>
          <a:xfrm>
            <a:off x="347760" y="1828800"/>
            <a:ext cx="8448480" cy="3200400"/>
          </a:xfrm>
          <a:prstGeom prst="rect">
            <a:avLst/>
          </a:prstGeom>
          <a:ln w="0">
            <a:noFill/>
          </a:ln>
        </p:spPr>
      </p:pic>
      <p:sp>
        <p:nvSpPr>
          <p:cNvPr id="1034" name="矩形 87042"/>
          <p:cNvSpPr/>
          <p:nvPr/>
        </p:nvSpPr>
        <p:spPr>
          <a:xfrm>
            <a:off x="8150400" y="3083040"/>
            <a:ext cx="36504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86017" descr=""/>
          <p:cNvPicPr/>
          <p:nvPr/>
        </p:nvPicPr>
        <p:blipFill>
          <a:blip r:embed="rId1"/>
          <a:stretch/>
        </p:blipFill>
        <p:spPr>
          <a:xfrm>
            <a:off x="347760" y="1386000"/>
            <a:ext cx="8448480" cy="4086000"/>
          </a:xfrm>
          <a:prstGeom prst="rect">
            <a:avLst/>
          </a:prstGeom>
          <a:ln w="0">
            <a:noFill/>
          </a:ln>
        </p:spPr>
      </p:pic>
      <p:sp>
        <p:nvSpPr>
          <p:cNvPr id="1036" name="矩形 86018"/>
          <p:cNvSpPr/>
          <p:nvPr/>
        </p:nvSpPr>
        <p:spPr>
          <a:xfrm>
            <a:off x="853920" y="2235240"/>
            <a:ext cx="64152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6019"/>
          <p:cNvSpPr/>
          <p:nvPr/>
        </p:nvSpPr>
        <p:spPr>
          <a:xfrm>
            <a:off x="2195640" y="2205000"/>
            <a:ext cx="83160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86020"/>
          <p:cNvSpPr/>
          <p:nvPr/>
        </p:nvSpPr>
        <p:spPr>
          <a:xfrm>
            <a:off x="5940360" y="3068640"/>
            <a:ext cx="727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86021"/>
          <p:cNvSpPr/>
          <p:nvPr/>
        </p:nvSpPr>
        <p:spPr>
          <a:xfrm>
            <a:off x="1619280" y="4292640"/>
            <a:ext cx="727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86022"/>
          <p:cNvSpPr/>
          <p:nvPr/>
        </p:nvSpPr>
        <p:spPr>
          <a:xfrm>
            <a:off x="1908000" y="5084640"/>
            <a:ext cx="11462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86023"/>
          <p:cNvSpPr/>
          <p:nvPr/>
        </p:nvSpPr>
        <p:spPr>
          <a:xfrm>
            <a:off x="5651640" y="5084640"/>
            <a:ext cx="7333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84993" descr=""/>
          <p:cNvPicPr/>
          <p:nvPr/>
        </p:nvPicPr>
        <p:blipFill>
          <a:blip r:embed="rId1"/>
          <a:stretch/>
        </p:blipFill>
        <p:spPr>
          <a:xfrm>
            <a:off x="304920" y="1157400"/>
            <a:ext cx="8534160" cy="4543200"/>
          </a:xfrm>
          <a:prstGeom prst="rect">
            <a:avLst/>
          </a:prstGeom>
          <a:ln w="0">
            <a:noFill/>
          </a:ln>
        </p:spPr>
      </p:pic>
      <p:sp>
        <p:nvSpPr>
          <p:cNvPr id="1043" name="矩形 84994"/>
          <p:cNvSpPr/>
          <p:nvPr/>
        </p:nvSpPr>
        <p:spPr>
          <a:xfrm>
            <a:off x="4549680" y="2463840"/>
            <a:ext cx="1203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4995"/>
          <p:cNvSpPr/>
          <p:nvPr/>
        </p:nvSpPr>
        <p:spPr>
          <a:xfrm>
            <a:off x="3419640" y="2852640"/>
            <a:ext cx="684000" cy="3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4996"/>
          <p:cNvSpPr/>
          <p:nvPr/>
        </p:nvSpPr>
        <p:spPr>
          <a:xfrm>
            <a:off x="2556000" y="3284640"/>
            <a:ext cx="60804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84997"/>
          <p:cNvSpPr/>
          <p:nvPr/>
        </p:nvSpPr>
        <p:spPr>
          <a:xfrm>
            <a:off x="1042920" y="4508640"/>
            <a:ext cx="77940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84998"/>
          <p:cNvSpPr/>
          <p:nvPr/>
        </p:nvSpPr>
        <p:spPr>
          <a:xfrm>
            <a:off x="2771640" y="4508640"/>
            <a:ext cx="60804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84999"/>
          <p:cNvSpPr/>
          <p:nvPr/>
        </p:nvSpPr>
        <p:spPr>
          <a:xfrm>
            <a:off x="5076720" y="4508640"/>
            <a:ext cx="44316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85000"/>
          <p:cNvSpPr/>
          <p:nvPr/>
        </p:nvSpPr>
        <p:spPr>
          <a:xfrm>
            <a:off x="7812000" y="4815000"/>
            <a:ext cx="94140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85001"/>
          <p:cNvSpPr/>
          <p:nvPr/>
        </p:nvSpPr>
        <p:spPr>
          <a:xfrm>
            <a:off x="665280" y="5286240"/>
            <a:ext cx="1385640" cy="2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83969" descr=""/>
          <p:cNvPicPr/>
          <p:nvPr/>
        </p:nvPicPr>
        <p:blipFill>
          <a:blip r:embed="rId1"/>
          <a:stretch/>
        </p:blipFill>
        <p:spPr>
          <a:xfrm>
            <a:off x="528480" y="990720"/>
            <a:ext cx="8087040" cy="4876560"/>
          </a:xfrm>
          <a:prstGeom prst="rect">
            <a:avLst/>
          </a:prstGeom>
          <a:ln w="0">
            <a:noFill/>
          </a:ln>
        </p:spPr>
      </p:pic>
      <p:sp>
        <p:nvSpPr>
          <p:cNvPr id="1052" name="矩形 83970"/>
          <p:cNvSpPr/>
          <p:nvPr/>
        </p:nvSpPr>
        <p:spPr>
          <a:xfrm>
            <a:off x="4664160" y="3216240"/>
            <a:ext cx="36504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82945" descr=""/>
          <p:cNvPicPr/>
          <p:nvPr/>
        </p:nvPicPr>
        <p:blipFill>
          <a:blip r:embed="rId1"/>
          <a:stretch/>
        </p:blipFill>
        <p:spPr>
          <a:xfrm>
            <a:off x="528480" y="2066760"/>
            <a:ext cx="8087040" cy="2724480"/>
          </a:xfrm>
          <a:prstGeom prst="rect">
            <a:avLst/>
          </a:prstGeom>
          <a:ln w="0">
            <a:noFill/>
          </a:ln>
        </p:spPr>
      </p:pic>
      <p:sp>
        <p:nvSpPr>
          <p:cNvPr id="1054" name="矩形 82946"/>
          <p:cNvSpPr/>
          <p:nvPr/>
        </p:nvSpPr>
        <p:spPr>
          <a:xfrm>
            <a:off x="7864560" y="3244680"/>
            <a:ext cx="365040" cy="38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81921" descr=""/>
          <p:cNvPicPr/>
          <p:nvPr/>
        </p:nvPicPr>
        <p:blipFill>
          <a:blip r:embed="rId1"/>
          <a:stretch/>
        </p:blipFill>
        <p:spPr>
          <a:xfrm>
            <a:off x="514440" y="1243080"/>
            <a:ext cx="8115120" cy="4371840"/>
          </a:xfrm>
          <a:prstGeom prst="rect">
            <a:avLst/>
          </a:prstGeom>
          <a:ln w="0">
            <a:noFill/>
          </a:ln>
        </p:spPr>
      </p:pic>
      <p:sp>
        <p:nvSpPr>
          <p:cNvPr id="1056" name="矩形 81922"/>
          <p:cNvSpPr/>
          <p:nvPr/>
        </p:nvSpPr>
        <p:spPr>
          <a:xfrm>
            <a:off x="7788240" y="4025880"/>
            <a:ext cx="36504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80897" descr=""/>
          <p:cNvPicPr/>
          <p:nvPr/>
        </p:nvPicPr>
        <p:blipFill>
          <a:blip r:embed="rId1"/>
          <a:stretch/>
        </p:blipFill>
        <p:spPr>
          <a:xfrm>
            <a:off x="542880" y="1276200"/>
            <a:ext cx="8058240" cy="4305600"/>
          </a:xfrm>
          <a:prstGeom prst="rect">
            <a:avLst/>
          </a:prstGeom>
          <a:ln w="0">
            <a:noFill/>
          </a:ln>
        </p:spPr>
      </p:pic>
      <p:sp>
        <p:nvSpPr>
          <p:cNvPr id="1058" name="矩形 80898"/>
          <p:cNvSpPr/>
          <p:nvPr/>
        </p:nvSpPr>
        <p:spPr>
          <a:xfrm>
            <a:off x="4883040" y="2940120"/>
            <a:ext cx="36540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0:57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